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631E-1DD0-4FA5-93C9-CD342EFB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F4E3-BFD3-4E09-99E8-957B276D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EF93-6145-4756-973D-7ECF730B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F9D2-C100-4CF4-BACF-FEEC1D93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FADD-99D0-47E9-AC78-4AC0B7B0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81A4-436D-4CB4-9DF3-17645102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3689-7911-47A7-84DD-BF2B1EFA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20CC-72A8-4C7E-A1CD-84DF7060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0A39-22BB-413C-BC54-3EC57911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C3B0-45B8-477C-AA48-5278ED02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0F49-22C8-4F6A-9F60-1FEFC5B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A840-2EBB-4033-A7A3-A7145073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4092-BCBB-4F7A-8CE2-3DEB24FF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31F4-65F0-45BB-A8FE-529ECB1B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70FC-F0D9-4957-B6EE-BBB29436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3461-0791-4739-8BF6-347651E8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F30B-690A-4E20-9EB1-8D05F529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EF30-DAD2-4939-888B-39570D82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8C72-CE1B-419C-B01B-48E64764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88D3-2AB7-4D1E-ADCF-584726BD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DCF4D-BEF0-40EB-847C-78DC84A2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0669-89DC-4660-8EC8-4B7CDA59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49EE-655B-4EB5-93EC-DDF1A369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295B-92CB-4A37-907F-7EEA3B6B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4E59-DDFB-4DA3-BE59-7538AE41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E26D-CA69-453D-9E73-5521A0C8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A871-8030-44E6-A079-CC698C29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7DCE-86D1-42A7-964A-624FFE1E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4009A-5CC8-4F56-9CB0-6684950D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6AA8-A060-4370-BF72-E34576DB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30F7-121A-46A2-BF95-4160D6D4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418C-A09F-4260-B3D0-B8F1A4D9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9EF7-0EF0-44FF-B708-B98DB348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3268-B79D-4336-A1A7-257CCD8F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DE97-5E6D-4F79-8950-2D3D74C9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728E-0034-406B-A4B6-4C8C4ED6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879A-EDE2-49EB-95E6-D0EB2BE2C6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">
            <a:hlinkClick r:id="" action="ppaction://hlinkshowjump?jump=las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">
            <a:hlinkClick r:id="" action="ppaction://hlinkshowjump?jump=nextslide"/>
          </p:cNvPr>
          <p:cNvSpPr/>
          <p:nvPr/>
        </p:nvSpPr>
        <p:spPr>
          <a:xfrm>
            <a:off x="83818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53FC-D299-46D5-8E36-75073F4A37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873B-B47C-47DB-93A8-617A7E48F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las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3818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ome Sail Away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ader’s Theatre Adven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772400" y="6400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0187600">
            <a:off x="5943600" y="56386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avigate Here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Macintosh HD:Users:sherry:Music:iTunes:iTunes Music:Styx:Greatest Hits:09 Come Sail Away.mp3" descr=""/>
          <p:cNvPicPr/>
          <p:nvPr/>
        </p:nvPicPr>
        <p:blipFill>
          <a:blip r:embed="rId1"/>
          <a:stretch/>
        </p:blipFill>
        <p:spPr>
          <a:xfrm>
            <a:off x="0" y="6858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Adventure Continue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 rot="20571600">
            <a:off x="1344240" y="2819520"/>
            <a:ext cx="3669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Tahoma"/>
              </a:rPr>
              <a:t>Teach it!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398760" cy="34196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0773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la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rs. Ro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enari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rs. Roth teaches 7-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rade Intensive Reading. She wishes to add reader’s theatre to her class. For the first attempt, the students will only perform for each 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careful research, she chose: The Giant’s Wife as her first scrip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773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la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ript Instruction Steps…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asic overview of fluenc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lnSpc>
                <a:spcPct val="90000"/>
              </a:lnSpc>
              <a:spcBef>
                <a:spcPts val="3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each the student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luency is the correct words read per minut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der’s Theatre fluency is not only correct words read per minute, but correct words read following script cue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784520" indent="-41292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r example - emotions - anger, fear, sadness, happiness - let it show in your voic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784520" indent="-41292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r example - tone - loud, soft, whisper, etc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784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asic overview of scrip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lnSpc>
                <a:spcPct val="9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ach the abstract to the stud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lnSpc>
                <a:spcPct val="9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background knowledge of setting if possi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lnSpc>
                <a:spcPct val="9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iscuss characters and their feelings at selected points in the 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60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nd out the scripts to the studen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rect instruction of any teacher located difficult words 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sk students to review script looking for words they do not know. Have students write unknown words on a sticky note and put on the board for discuss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60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77440" y="63770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iant’s Wife Power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067400"/>
            <a:ext cx="807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rs. Roth created a short PowerPoint to illustrate The Giant’s Wif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t’s look at the PowerPoint and her rationale for each sl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04920" y="2109960"/>
            <a:ext cx="6324480" cy="4748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629400" y="2755440"/>
            <a:ext cx="2513160" cy="1647720"/>
          </a:xfrm>
          <a:prstGeom prst="wedgeEllipseCallout">
            <a:avLst>
              <a:gd name="adj1" fmla="val -68819"/>
              <a:gd name="adj2" fmla="val 41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he starts with a picture of an Irish mountain like the one our giant lives nea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66720" y="-36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Stone Sans ITC TT-Bold"/>
              </a:rPr>
              <a:t>Giant’s Cause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219320"/>
            <a:ext cx="45720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tone Sans ITC TT-Semi"/>
              </a:rPr>
              <a:t>40,000 interlocking basalt columns resulting from a volcanic erup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tone Sans ITC TT-Semi"/>
              </a:rPr>
              <a:t>The tops of the columns form stepping stones that lead from the cliff foot and disappear under the sea.</a:t>
            </a:r>
            <a:r>
              <a:rPr b="0" lang="en-US" sz="2800" spc="-1" strike="noStrike">
                <a:solidFill>
                  <a:srgbClr val="333333"/>
                </a:solidFill>
                <a:latin typeface="Trebuchet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8880" cy="4572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0880" y="48006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tone Sans ITC TT-Semi"/>
              </a:rPr>
              <a:t>Most of the columns are hexagonal, however there are some with four, five, seven and eight sides. The tallest are about 36 ft hi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180720"/>
            <a:ext cx="1676520" cy="1950120"/>
          </a:xfrm>
          <a:prstGeom prst="wedgeEllipseCallout">
            <a:avLst>
              <a:gd name="adj1" fmla="val 90703"/>
              <a:gd name="adj2" fmla="val -28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ur giant is building this causeway. Awesome - huh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1823760"/>
            <a:ext cx="75438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is script is fairly simple other than names. Mrs. Roth direct teaches the names to the students with multiple reminder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Cuhulli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is pronounced “koo-HULL-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ona is pronounce as it is spell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ther key word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ch! - Exclamation! Surprise!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Pronunciation: it  rhymes with the Scottish loc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iddle -  iron pancake p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rieve - sad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ocabula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268880" cy="457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419720" y="838080"/>
            <a:ext cx="44956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teaching the setting, Mrs. Roth assigns teams of two or three students to read the script aloud disregarding character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le the students read, Mrs. Roth, roams around the room listening for mispronounced words and determines her ca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is ends this le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xt step… practice  the scrip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endshow"/>
          </p:cNvPr>
          <p:cNvSpPr/>
          <p:nvPr/>
        </p:nvSpPr>
        <p:spPr>
          <a:xfrm>
            <a:off x="7086600" y="609588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4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4" y="20200"/>
                </a:lnTo>
                <a:lnTo>
                  <a:pt x="56894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4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S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1:34:43Z</dcterms:created>
  <dc:creator>Greg Walsh</dc:creator>
  <dc:description/>
  <dc:language>en-US</dc:language>
  <cp:lastModifiedBy>Greg Walsh</cp:lastModifiedBy>
  <dcterms:modified xsi:type="dcterms:W3CDTF">2009-04-19T17:35:33Z</dcterms:modified>
  <cp:revision>10</cp:revision>
  <dc:subject/>
  <dc:title>Come Sail Away </dc:title>
</cp:coreProperties>
</file>